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D258-A814-427C-A4C0-38F01FC1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277D-0114-4AEB-864E-8245C17E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AB5A-4529-40AA-B850-A2F54F61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27E9-9FEF-4C65-BF48-598F2485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25C6-191A-46C2-A4C6-24AB4739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82F5-0BEA-4B3D-B08D-42F6D334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2AEA-70F4-4AFF-AED9-754850A4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5C38-B1DF-400F-A159-9054094A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3ADB-E9B1-459E-9531-45831630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D852-F65D-41F1-97DE-6F3F561C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3E0F-0021-4F3A-8EEB-0401FB11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24EC-5361-4D89-B8D4-73076215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7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B541-E85A-4D05-832B-9AB9CA59D0F7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Mufflon-01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pl.wikipedia.org/wiki/Grafika:Dama_dama8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pl.wikipedia.org/wiki/Grafika:Kozicewmnichowym.jpg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Steppe_of_western_Kazakhstan_in_the_early_spring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GoldenEagle-Nova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pl.wikipedia.org/wiki/Grafika:Buteo_buteo_5_%28Marek_Szczepanek%29.jp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pl.wikipedia.org/wiki/Grafika:Bubo_bubo.jpg" TargetMode="External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Silz_cerf24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pl.wikipedia.org/wiki/Grafika:Vulpes_vulpes_laying_in_snow.jpg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pl.wikipedia.org/wiki/Grafika:Canis_lupus_265b.jpg" TargetMode="External"/><Relationship Id="rId6" Type="http://schemas.openxmlformats.org/officeDocument/2006/relationships/image" Target="../media/image26.jpeg"/><Relationship Id="rId7" Type="http://schemas.openxmlformats.org/officeDocument/2006/relationships/hyperlink" Target="http://pl.wikipedia.org/wiki/Grafika:Bigbullmoose.jpg" TargetMode="External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ajga.org/galerie/Bajkal/index.html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Moose-Gustav.jpg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pl.wikipedia.org/wiki/Grafika:Medved_mzoo.jpg" TargetMode="External"/><Relationship Id="rId4" Type="http://schemas.openxmlformats.org/officeDocument/2006/relationships/image" Target="../media/image30.jpeg"/><Relationship Id="rId5" Type="http://schemas.openxmlformats.org/officeDocument/2006/relationships/hyperlink" Target="http://upload.wikimedia.org/wikipedia/commons/e/ed/Polarwolf004.jpg" TargetMode="External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Vulpes_vulpes_laying_in_snow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pl.wikipedia.org/wiki/Grafika:Mountain_Hare_Scotland.jpg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pl.wikipedia.org/wiki/Grafika:Knut_IMG_8095.jpg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pl.wikipedia.org/wiki/Grafika:20070818-0001-strolling_reindeer.jpg" TargetMode="External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Orangutan_001.jpe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pl.wikipedia.org/wiki/Grafika:Gelbbrustara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pl.wikipedia.org/wiki/Grafika:Hummingbird_hovering_in_flight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pl.wikipedia.org/wiki/Grafika:Spectacled_Caiman.JP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javascript:window.close()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357200" y="1071720"/>
            <a:ext cx="6286680" cy="28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trefy krajobrazowe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Ziemi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3492360" y="4581360"/>
            <a:ext cx="822960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21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3"/>
          <p:cNvSpPr/>
          <p:nvPr/>
        </p:nvSpPr>
        <p:spPr>
          <a:xfrm>
            <a:off x="6804000" y="6093000"/>
            <a:ext cx="24685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21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ślinność strefy śródziemnomorskiej nazywana jest także roślinnością twardolistn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ślinność w tej strefie jest przystosowana do letniego okresu suszy. Liście drzew i krzewów są skórzaste - lśniące, sztywne, grube i twarde.. Takie liście ma wawrzyn, czyli laur.  Roślinność twardolistna jest wiecznie zielona. Rosną tam: karłowate dęby, oleandry, mirty, jałowce, wawrzyny, wrzośce, pistacje, cytrusy i oliwki. Charakterystycznymi elementami krajobrazu śródziemnomorskiego są pinie i wysmukłe cyprysy oraz dęby korkowe.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ata są suche i upalne, zimy łagodne i wilgotne. Największe opady deszczu występują od listopada do kwietnia. Nie ma klimatycznej zi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e zwierzęta tej strefy: muflony, daniele i koz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260px-Mufflon-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4149720"/>
            <a:ext cx="2476800" cy="1866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5364000" y="5734080"/>
            <a:ext cx="19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580000" y="5950080"/>
            <a:ext cx="1944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260px-Dama_dama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4005360"/>
            <a:ext cx="2476800" cy="2685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260px-Kozicewmnichowym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56360" y="4724280"/>
            <a:ext cx="26924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4067280" y="5877000"/>
            <a:ext cx="1143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tep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8" name="Picture 7" descr="Step kazachsk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33360"/>
            <a:ext cx="70578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to teren równinny pokryty trawą i krzewami, pozbawiony drzew, rzek i jezi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krajobrazie stepowym dominują trawy, czasem wyższe od człowieka. Obok traw rośnie sporo innych roślin zielnych. W kwietniu i w maju rośliny zakwitają i step staje się kolorowy. Jednak już w czerwcu trawy żółkną i wysychają. Latem rośliny wysychają, a jesienią  step brunatnieje i zamie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ata są gorące i suche, zimy długie i mroź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harakterystyczne zwierzęta: antylopy, np. gazele, dzikie konie i osły, pieski preriowe, świstaki. Zyją   tu wilki i stepowe lisy,  a także drapieżne ptaki: orzeł, pustułka, sowa, myszoł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260px-GoldenEagle-Nov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4292640"/>
            <a:ext cx="2476800" cy="2257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260px-Buteo_buteo_5_%28Marek_Szczepanek%2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4581360"/>
            <a:ext cx="2476800" cy="2130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200px-Bubo_bub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5640" y="4653000"/>
            <a:ext cx="19051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2700360" y="5734080"/>
            <a:ext cx="343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s liściast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4" name="Picture 7" descr="Grafika:Las mieszany wiosną.jpg"/>
          <p:cNvPicPr/>
          <p:nvPr/>
        </p:nvPicPr>
        <p:blipFill>
          <a:blip r:embed="rId1"/>
          <a:stretch/>
        </p:blipFill>
        <p:spPr>
          <a:xfrm>
            <a:off x="826920" y="115920"/>
            <a:ext cx="720108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as liściast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ekosystem leśny   z udziałem przede wszystkim drzew  liściast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asy liściaste zrzucają liście na zimę.  Najpopularniejsze  gatunki drzew to: buk, dąb, klon, grab, wierzba, topola,  olsza. Obok typowych lasów liściastych występują bory mieszane, czyli lasy z domieszka drzew iglasty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stępują wyraźne cztery pory ro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harakterystyczne zwierzęta: wilk, lis, niedźwiedź, jeleń, łoś, ry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260px-Silz_cerf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5084640"/>
            <a:ext cx="2476440" cy="1648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260px-Vulpes_vulpes_laying_in_sno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3357720"/>
            <a:ext cx="2476440" cy="163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Wilk szar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378936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Łopatacz z charakterystyczną brodą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72360" y="4076640"/>
            <a:ext cx="190476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3708360" y="5734080"/>
            <a:ext cx="1400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ajg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1" name="Picture 10" descr="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549360"/>
            <a:ext cx="741708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ajg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borealne lasy szpilkow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stępują w północnej części Ameryki Północnej, Europy i Azji. Rosną tu głównie: świerk, modrzew, jodła, sosna. W większej części strefy lasów iglastych występuje wieczna zmarzlina.  Grunt  jest bardzo głęboko zamarznięty i tylko latem rozmraża się na głębokość 1 m. Wieczna zmarzlina  uniemożliwia odpływanie wód opadowych, co sprzyja tworzeniu się rozległych obszarów bagien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stępuje tam krótkie, ciepłe lato i długa, mroźna, śnieżna zi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e zwierzęta: wilk, lis, łoś, niedźwied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835280" y="3645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260px-Moose-Gusta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4221000"/>
            <a:ext cx="2476440" cy="1857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260px-Medved_mzo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16720" y="3429000"/>
            <a:ext cx="2476440" cy="3305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Grafika:Polarwolf004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3789360"/>
            <a:ext cx="28735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3635280" y="5516640"/>
            <a:ext cx="1752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undr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8" name="Picture 7" descr="Grafika:Wrangel Island tundra.jpg"/>
          <p:cNvPicPr/>
          <p:nvPr/>
        </p:nvPicPr>
        <p:blipFill>
          <a:blip r:embed="rId1"/>
          <a:stretch/>
        </p:blipFill>
        <p:spPr>
          <a:xfrm>
            <a:off x="826920" y="765000"/>
            <a:ext cx="73152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Tundr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- bezleśne zbiorowisko roślinności w zimnym klimacie strefy arktycznej i subarktycznej. Charakteryzuje się bardzo niską pokrywą roślinną, zdominowaną przez mchy i poros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Lata są krótkie i chłodne, zimy długie i mroźne. Występuje wieczna zmarzli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yją tu: lis i niedźwiedź polarny, sowa polarna i zając biel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260px-Vulpes_vulpes_laying_in_sno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221000"/>
            <a:ext cx="2476440" cy="1638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260px-Mountain_Hare_Scotlan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4653000"/>
            <a:ext cx="2476440" cy="2000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Knut 24 marca 2007 r.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84360" y="4941720"/>
            <a:ext cx="2381400" cy="1791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260px-20070818-0001-strolling_reindeer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6360" y="3716280"/>
            <a:ext cx="2476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2411280" y="5661000"/>
            <a:ext cx="4105440" cy="64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ustynia lodow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5" name="Picture 10" descr="Pustynia lodowa Antarktyda"/>
          <p:cNvPicPr/>
          <p:nvPr/>
        </p:nvPicPr>
        <p:blipFill>
          <a:blip r:embed="rId1"/>
          <a:stretch/>
        </p:blipFill>
        <p:spPr>
          <a:xfrm>
            <a:off x="1042920" y="333360"/>
            <a:ext cx="66960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5e"/>
            </a:gs>
            <a:gs pos="50000">
              <a:srgbClr val="99ffcc"/>
            </a:gs>
            <a:gs pos="100000">
              <a:srgbClr val="47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trefy  roślin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as równikow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awa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Pusty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Lasy podzwrotniko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Lasy liści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Taj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Tund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ustynia lodow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obszar wiecznych lodów w strefie polarnej, pozbawiony roślinności i bez stałej ludnoś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limat charakteryzuje się ujemnymi temperaturami powietrza w ciągu całego roku, opadami śniegu i bardzo silnymi wiatrami. Pory roku wyznaczane są przez dzień polarny i noc polarną. Temperatura: od -10°C w lecie do -50°C w zim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e zwierzęta to: foki, morsy, wieloryby i czasami niedźwiedzie polarne w Arktyce, a pingwiny w Antarktyce. Żyją tu również rybitwy, mewy i albatros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260px-Emperor_penguin"/>
          <p:cNvPicPr/>
          <p:nvPr/>
        </p:nvPicPr>
        <p:blipFill>
          <a:blip r:embed="rId1"/>
          <a:stretch/>
        </p:blipFill>
        <p:spPr>
          <a:xfrm>
            <a:off x="3492360" y="3141720"/>
            <a:ext cx="2230560" cy="3259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260px-Walrus"/>
          <p:cNvPicPr/>
          <p:nvPr/>
        </p:nvPicPr>
        <p:blipFill>
          <a:blip r:embed="rId2"/>
          <a:stretch/>
        </p:blipFill>
        <p:spPr>
          <a:xfrm>
            <a:off x="611280" y="4221000"/>
            <a:ext cx="2476440" cy="1543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260px-Snowy"/>
          <p:cNvPicPr/>
          <p:nvPr/>
        </p:nvPicPr>
        <p:blipFill>
          <a:blip r:embed="rId3"/>
          <a:stretch/>
        </p:blipFill>
        <p:spPr>
          <a:xfrm>
            <a:off x="6300720" y="3716280"/>
            <a:ext cx="24764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2627280" y="5805360"/>
            <a:ext cx="3743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s równikow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Picture 7" descr="Image:Amazon Rainforest.jpg"/>
          <p:cNvPicPr/>
          <p:nvPr/>
        </p:nvPicPr>
        <p:blipFill>
          <a:blip r:embed="rId1"/>
          <a:stretch/>
        </p:blipFill>
        <p:spPr>
          <a:xfrm>
            <a:off x="755640" y="333360"/>
            <a:ext cx="763272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asy równikowe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wane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asami deszczowym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ropikalnymi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ub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żunglą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są to lasy wiecznie zielone. Stanowią około 30% powierzchni wszystkich lasów na świecie. Roślinność rośnie bardzo szybko i jest bardzo bujna (na 1 ha lasu tropikalnego występuje około 200 gatunków drzew, w tym palmy i  drzewiaste paproci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2708280"/>
            <a:ext cx="849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zez cały rok panuje wysoka temperatura i padaj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bfite deszcze zenital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e zwierzęta: małpy, krokodyle, liczne gatunki ptak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55640" y="220500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ym zbiorowiskiem są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asy namorzynow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260px-Orangutan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292640"/>
            <a:ext cx="2476440" cy="1790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260px-Gelbbrustar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1989000"/>
            <a:ext cx="2476440" cy="167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260px-Hummingbird_hovering_in_fligh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4365720"/>
            <a:ext cx="2476440" cy="2305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260px-Spectacled_Caima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56360" y="4076640"/>
            <a:ext cx="2476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3419640" y="5805360"/>
            <a:ext cx="2286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awann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Picture 8" descr="Grafika:Tarangire-Natpark800600.jpg"/>
          <p:cNvPicPr/>
          <p:nvPr/>
        </p:nvPicPr>
        <p:blipFill>
          <a:blip r:embed="rId1"/>
          <a:stretch/>
        </p:blipFill>
        <p:spPr>
          <a:xfrm>
            <a:off x="684360" y="189000"/>
            <a:ext cx="748980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08000" y="620280"/>
            <a:ext cx="82296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awann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to trawiasta formacja strefy międzyzwrotnikowe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minują tu kępki sucholubnych traw, jak  trawa słoniowa, dochodząca do 5 m wysokości. Na niektórych sawannach rosną nieliczne drzewa, np.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kacj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aobab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czy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alm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które zwykle zrzucają liście w porze suchej. Większe skupiska występują tylko nad ciekami wodnymi tworząc tzw.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asy galeriow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limat gorący z wyraźnie zaznaczoną porą suchą oraz deszczow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e zwierzęta: lwy, żyrafy, słonie, antylo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68360" y="61657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Spis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reś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Grafika:Crocuta-hejda.jpg"/>
          <p:cNvPicPr/>
          <p:nvPr/>
        </p:nvPicPr>
        <p:blipFill>
          <a:blip r:embed="rId4"/>
          <a:stretch/>
        </p:blipFill>
        <p:spPr>
          <a:xfrm>
            <a:off x="6948360" y="3500280"/>
            <a:ext cx="2016360" cy="1506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Grafika:Namibie Etosha Lion 01.JPG"/>
          <p:cNvPicPr/>
          <p:nvPr/>
        </p:nvPicPr>
        <p:blipFill>
          <a:blip r:embed="rId5"/>
          <a:stretch/>
        </p:blipFill>
        <p:spPr>
          <a:xfrm>
            <a:off x="2411280" y="3716280"/>
            <a:ext cx="2266920" cy="1697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Grafika:Elephant side-view Kruger.jpg"/>
          <p:cNvPicPr/>
          <p:nvPr/>
        </p:nvPicPr>
        <p:blipFill>
          <a:blip r:embed="rId6"/>
          <a:stretch/>
        </p:blipFill>
        <p:spPr>
          <a:xfrm>
            <a:off x="468360" y="4870440"/>
            <a:ext cx="2266920" cy="170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7"/>
          <a:stretch/>
        </p:blipFill>
        <p:spPr>
          <a:xfrm>
            <a:off x="4716360" y="4654440"/>
            <a:ext cx="25909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3203640" y="5877000"/>
            <a:ext cx="21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ustyni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" name="Picture 7" descr="Libyen-sandwueste1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ustyni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teren pozbawiony zwartej szaty roślinnej na skutek małej ilości opadó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ślinność jest uboga, ale wiele roślin przystosowało się do skrajnych warunków klimatycznych poprzez skrócenie okresu wegetacyjnego na okres pory deszczowej, gromadząc wodę (tzw. sukulenty i efemerydy). Roślinność taka nie zajmuje jednak więcej niż 10% powierzchni. Większe płaty roślinności występują w oaz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dzaje pustyń: piaszczysta, żwirowa, skalista. Występują tu wysokie dobowe amplitudy temperatury powietrza od 0°C nocą do +50°C w dzie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e zwierzęta to: lis fenek, skorpiony, wielbłą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Grafika:Camel 111.jpg"/>
          <p:cNvPicPr/>
          <p:nvPr/>
        </p:nvPicPr>
        <p:blipFill>
          <a:blip r:embed="rId1"/>
          <a:stretch/>
        </p:blipFill>
        <p:spPr>
          <a:xfrm>
            <a:off x="6588000" y="4365720"/>
            <a:ext cx="2376720" cy="2230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Image:Black scorpion.jpg"/>
          <p:cNvPicPr/>
          <p:nvPr/>
        </p:nvPicPr>
        <p:blipFill>
          <a:blip r:embed="rId2"/>
          <a:stretch/>
        </p:blipFill>
        <p:spPr>
          <a:xfrm>
            <a:off x="395280" y="4292640"/>
            <a:ext cx="2124000" cy="1593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Grafika:TA ZOO orna Pict0224.jpg"/>
          <p:cNvPicPr/>
          <p:nvPr/>
        </p:nvPicPr>
        <p:blipFill>
          <a:blip r:embed="rId3"/>
          <a:stretch/>
        </p:blipFill>
        <p:spPr>
          <a:xfrm>
            <a:off x="3132000" y="4724280"/>
            <a:ext cx="25560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1908000" y="5445000"/>
            <a:ext cx="5419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s podzwrotnikow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0" name="Picture 7" descr="sawanna w Australi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549360"/>
            <a:ext cx="66675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07:54:24Z</dcterms:created>
  <dc:creator>kurs</dc:creator>
  <dc:description/>
  <dc:language>en-US</dc:language>
  <cp:lastModifiedBy>q</cp:lastModifiedBy>
  <dcterms:modified xsi:type="dcterms:W3CDTF">2013-03-15T15:44:04Z</dcterms:modified>
  <cp:revision>9</cp:revision>
  <dc:subject/>
  <dc:title>Biomy Ziemi</dc:title>
</cp:coreProperties>
</file>